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908-3908-4B82-B99A-7A7855F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D8E8-896F-4053-9B34-2493C18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D16-87E6-4675-A370-878EC303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73B-69BF-486B-BC4F-42AAD2E6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FD4-DED2-4906-86B4-F388A9BE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14D-7EBE-4316-B080-0309E3FB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28F-FFAE-40A9-B27A-8D89B49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3F2-CC94-4DF7-95A3-B415C2C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DC2-26B8-423B-B0CF-4053679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1EC-A731-4022-9B4E-E264A8CA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400-33BB-4215-B9A3-6120EB4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13F-5974-4412-8BFF-B3D48C61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704-2E70-45E2-BA7E-EFB71DECDC3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 rot="591600">
            <a:off x="2916360" y="453708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859280" y="299736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 rot="20242200">
            <a:off x="1908000" y="1341000"/>
            <a:ext cx="229104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616200">
            <a:off x="5363640" y="981000"/>
            <a:ext cx="227520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999600">
            <a:off x="3563640" y="2781000"/>
            <a:ext cx="2124000" cy="28512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 rot="1348800">
            <a:off x="1618920" y="349992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 rot="20565000">
            <a:off x="3851280" y="126792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918800">
            <a:off x="2484000" y="1699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interrogacao"/>
          <p:cNvPicPr/>
          <p:nvPr/>
        </p:nvPicPr>
        <p:blipFill>
          <a:blip r:embed="rId2"/>
          <a:stretch/>
        </p:blipFill>
        <p:spPr>
          <a:xfrm>
            <a:off x="5292720" y="422100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967640" cy="5329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 rot="591600">
            <a:off x="5292720" y="2565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03640" y="3141720"/>
            <a:ext cx="227952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20242200">
            <a:off x="2556000" y="4149360"/>
            <a:ext cx="2290680" cy="234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 rot="616200">
            <a:off x="2195280" y="2491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 rot="999600">
            <a:off x="2411280" y="1125360"/>
            <a:ext cx="2813040" cy="22766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 rot="1348800">
            <a:off x="4211280" y="2276280"/>
            <a:ext cx="208440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 rot="20565000">
            <a:off x="4211640" y="691920"/>
            <a:ext cx="1779480" cy="1850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 rot="1918800">
            <a:off x="5148000" y="126792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4" descr="interrogacao"/>
          <p:cNvPicPr/>
          <p:nvPr/>
        </p:nvPicPr>
        <p:blipFill>
          <a:blip r:embed="rId2"/>
          <a:stretch/>
        </p:blipFill>
        <p:spPr>
          <a:xfrm>
            <a:off x="4716360" y="4076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435640" cy="5079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 rot="591600">
            <a:off x="1547640" y="263700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484360" y="2276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20242200">
            <a:off x="3635280" y="836280"/>
            <a:ext cx="298764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 rot="616200">
            <a:off x="1476000" y="1267920"/>
            <a:ext cx="2274840" cy="22640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 rot="999600">
            <a:off x="2410920" y="3789360"/>
            <a:ext cx="261324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 rot="1348800">
            <a:off x="3348000" y="3357720"/>
            <a:ext cx="249552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 rot="20565000">
            <a:off x="4500720" y="1628280"/>
            <a:ext cx="1779480" cy="1851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 rot="1918800">
            <a:off x="5724000" y="1268280"/>
            <a:ext cx="2106720" cy="3179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14" descr="interrogacao"/>
          <p:cNvPicPr/>
          <p:nvPr/>
        </p:nvPicPr>
        <p:blipFill>
          <a:blip r:embed="rId2"/>
          <a:stretch/>
        </p:blipFill>
        <p:spPr>
          <a:xfrm>
            <a:off x="5508720" y="3789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545080" cy="5329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 rot="591600">
            <a:off x="5076720" y="378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549360"/>
            <a:ext cx="277956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20242200">
            <a:off x="4643280" y="549000"/>
            <a:ext cx="311976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 rot="616200">
            <a:off x="1476000" y="2205000"/>
            <a:ext cx="272088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 rot="999600">
            <a:off x="2916000" y="3860640"/>
            <a:ext cx="2544480" cy="1955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 rot="1348800">
            <a:off x="3419280" y="2924280"/>
            <a:ext cx="282708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 rot="20565000">
            <a:off x="5148000" y="2781000"/>
            <a:ext cx="2616120" cy="2654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 rot="1918800">
            <a:off x="2987280" y="1699920"/>
            <a:ext cx="2108160" cy="3189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4" descr="interrogacao"/>
          <p:cNvPicPr/>
          <p:nvPr/>
        </p:nvPicPr>
        <p:blipFill>
          <a:blip r:embed="rId2"/>
          <a:stretch/>
        </p:blipFill>
        <p:spPr>
          <a:xfrm>
            <a:off x="1763640" y="386064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6121440" cy="5111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 rot="591600">
            <a:off x="1979640" y="414972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268360" y="2852640"/>
            <a:ext cx="227988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20242200">
            <a:off x="4788000" y="1699920"/>
            <a:ext cx="318600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 rot="616200">
            <a:off x="1763280" y="1341360"/>
            <a:ext cx="3000600" cy="267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 rot="999600">
            <a:off x="4284720" y="1341360"/>
            <a:ext cx="2749320" cy="245736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 rot="1348800">
            <a:off x="3347640" y="4149360"/>
            <a:ext cx="285444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 rot="20565000">
            <a:off x="3347640" y="3068280"/>
            <a:ext cx="2524320" cy="247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 rot="1918800">
            <a:off x="1692000" y="1268280"/>
            <a:ext cx="239544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interrogacao"/>
          <p:cNvPicPr/>
          <p:nvPr/>
        </p:nvPicPr>
        <p:blipFill>
          <a:blip r:embed="rId2"/>
          <a:stretch/>
        </p:blipFill>
        <p:spPr>
          <a:xfrm>
            <a:off x="5867280" y="422100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6048360" cy="5329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 rot="591600">
            <a:off x="3330360" y="3282840"/>
            <a:ext cx="2278080" cy="25210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92360" y="1197000"/>
            <a:ext cx="2500200" cy="1922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20242200">
            <a:off x="3419280" y="2060280"/>
            <a:ext cx="2290680" cy="23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rot="616200">
            <a:off x="5444640" y="2292480"/>
            <a:ext cx="2519640" cy="2952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999600">
            <a:off x="3995280" y="691920"/>
            <a:ext cx="212400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 rot="1348800">
            <a:off x="1552680" y="2679840"/>
            <a:ext cx="2442960" cy="2303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 rot="20565000">
            <a:off x="5233680" y="4208040"/>
            <a:ext cx="266544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 rot="1918800">
            <a:off x="5651280" y="980640"/>
            <a:ext cx="2108160" cy="2235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4" descr="interrogacao"/>
          <p:cNvPicPr/>
          <p:nvPr/>
        </p:nvPicPr>
        <p:blipFill>
          <a:blip r:embed="rId2"/>
          <a:stretch/>
        </p:blipFill>
        <p:spPr>
          <a:xfrm>
            <a:off x="1835280" y="3860640"/>
            <a:ext cx="22302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50920" y="946080"/>
            <a:ext cx="5329440" cy="5248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 rot="591600">
            <a:off x="4932360" y="407664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195640" y="1052640"/>
            <a:ext cx="2565360" cy="21366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20242200">
            <a:off x="4572000" y="764640"/>
            <a:ext cx="2386080" cy="2489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 rot="616200">
            <a:off x="5148000" y="213336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 rot="999600">
            <a:off x="3058920" y="981000"/>
            <a:ext cx="2354040" cy="2063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 rot="1348800">
            <a:off x="3203280" y="3933360"/>
            <a:ext cx="208440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 rot="20565000">
            <a:off x="3780000" y="2565000"/>
            <a:ext cx="2060280" cy="2032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 rot="1918800">
            <a:off x="2050560" y="2421000"/>
            <a:ext cx="2395800" cy="23702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4" descr="interrogacao"/>
          <p:cNvPicPr/>
          <p:nvPr/>
        </p:nvPicPr>
        <p:blipFill>
          <a:blip r:embed="rId2"/>
          <a:stretch/>
        </p:blipFill>
        <p:spPr>
          <a:xfrm>
            <a:off x="1979640" y="4005360"/>
            <a:ext cx="19810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1280" cy="4896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 rot="591600">
            <a:off x="1332000" y="2349360"/>
            <a:ext cx="2278080" cy="232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3645000"/>
            <a:ext cx="3384360" cy="25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20242200">
            <a:off x="4858920" y="2997360"/>
            <a:ext cx="2565360" cy="2344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 rot="616200">
            <a:off x="4284360" y="691920"/>
            <a:ext cx="2274840" cy="2263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 rot="999600">
            <a:off x="1547280" y="3284280"/>
            <a:ext cx="2124360" cy="19555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 rot="1348800">
            <a:off x="2901960" y="3782880"/>
            <a:ext cx="2808360" cy="230364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 rot="20565000">
            <a:off x="2411280" y="1052280"/>
            <a:ext cx="3024360" cy="27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 rot="1918800">
            <a:off x="4859280" y="404640"/>
            <a:ext cx="2108160" cy="3532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4" descr="interrogacao"/>
          <p:cNvPicPr/>
          <p:nvPr/>
        </p:nvPicPr>
        <p:blipFill>
          <a:blip r:embed="rId2"/>
          <a:stretch/>
        </p:blipFill>
        <p:spPr>
          <a:xfrm>
            <a:off x="5580000" y="4005360"/>
            <a:ext cx="1981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2T18:44:21Z</dcterms:created>
  <dc:creator>Jussana Maria Fahel Guimaraes Nery</dc:creator>
  <dc:description/>
  <dc:language>en-US</dc:language>
  <cp:lastModifiedBy>微软中国</cp:lastModifiedBy>
  <dcterms:modified xsi:type="dcterms:W3CDTF">2013-06-02T04:31:13Z</dcterms:modified>
  <cp:revision>22</cp:revision>
  <dc:subject/>
  <dc:title>Slide 1</dc:title>
</cp:coreProperties>
</file>